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D425-E650-4565-AE85-4717DCDC0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66E2-9CB0-4AA9-9EB1-8EE0127D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3B1F-BB64-44C8-A02D-7A05A3D60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B7FA-4F8E-4C75-A84F-3B33D513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78BB-AF96-414F-B4D1-251ABB4C1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684B-02C7-4D00-B6CA-6832E3E1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F3D4-A162-4592-88D0-E4728364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1FE6-E4AE-4406-B893-8DDDE1AF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A5A0-F82A-4923-A329-3992A915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34CB-6C5E-4837-AF85-17B904A0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A209-D028-4DF4-8566-8DDD9BC4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7762-3F7F-430C-B2BE-945D2663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AE15-3059-43B1-910E-3320ED5B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F91F-D6BE-4334-818A-12537751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FFA2-5E00-461C-91A7-5AD4BED4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167B-E05D-45D8-B768-3C97BEF86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0610-5DDF-462C-99F5-332D97824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27CF-23F3-40AD-8CAE-C26E5D07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C8CB-0CEC-4A0F-B13C-2ADF2A7F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63E2-626F-4311-99C3-89C8ECFA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9036-4C52-4A86-AC01-3DB9E34E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A3C4-5E9D-4F72-9A85-36752D04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744D-B572-4C02-B2BD-F1F42E0D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73BA-7E21-4BA5-9DC2-415E6DCA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3569-DC31-4C43-8BD1-7C3471F7D93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E293-B440-4FA8-9011-E0809040CD0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89480" y="789120"/>
            <a:ext cx="7565040" cy="19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999900"/>
                </a:solidFill>
                <a:latin typeface="Garamond"/>
              </a:rPr>
              <a:t>Modelo de Programaci</a:t>
            </a:r>
            <a:r>
              <a:rPr b="0" lang="es-BO" sz="5300" spc="-1" strike="noStrike">
                <a:solidFill>
                  <a:srgbClr val="999900"/>
                </a:solidFill>
                <a:latin typeface="Garamond"/>
              </a:rPr>
              <a:t>ón de la Producción en Tintorería</a:t>
            </a:r>
            <a:endParaRPr b="0" lang="en-US" sz="5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28600" y="327024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000" spc="-1" strike="noStrike">
                <a:solidFill>
                  <a:srgbClr val="000000"/>
                </a:solidFill>
                <a:latin typeface="Verdana"/>
              </a:rPr>
              <a:t>Caso: Fábrica Textil UNIVERSALTEX S.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4648320"/>
            <a:ext cx="1828800" cy="1096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077360" y="5105520"/>
            <a:ext cx="456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Verdana"/>
              </a:rPr>
              <a:t>Alumno:</a:t>
            </a: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 Abel Gonzalo Salinas Colum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Verdana"/>
              </a:rPr>
              <a:t>Profesor Tutor:</a:t>
            </a: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 Andrés Weintra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Proceso de Planificación de Inquiries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edidos en sistema con información muy general (mediano a largo plazo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Reserva de capacidades en Knitting Program. Tintorería como caja negr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Creación en sistema de ordenes genéricas copiando las reservas y considerando Tintorería como máquina virtu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Se reportan fechas de despacho de tela y flex da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Proceso de Planificación de APs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Requerimientos definitivos de tela por sistema y en detalle (corto a mediano plaz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Reemplazo de ordenes de Inqs por muchas ordenes de APs. Un Inq puede estar formado por uno o más A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Reemplazo Inqs por APs en Knitting Progr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álculo de requerimiento de materiales y de algunas cargas en Tintorerí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Reservas en el Programa de Tintorería, reservando máquinas a las carg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Se reportan nuevas fechas de despacho de te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Proceso de Programación de APs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Ejecución de ordenes de acuerdo a cálculos y Programas de Tintorería y Tejedurí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Subdivisión de órdenes asignándoles máquinas en Tejedurí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reación de Dyelots por color o estilo, en función al cálculo de cargas o con crite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Asignación de material a ordenes de acuerdo a su disponi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Actualización del Programa de Tintorería con nuevos Dyelots o reemplazando cargas por Dyelo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opia del Programa de Tintorería en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Se reportan retrasos y estado de ped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EL PROBLEMA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Sistemas Alternos (Hojas Electrónicas)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Se utilizan en actividades com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Planificación y Programación de Tejeduría (Knitting Progra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Planificación y Programación de Tintorerí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álculo de materi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álculo de cargas de Tintorerí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álculo de capacid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álculo de químicos y color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Determinación de fech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EL PROBLEMA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¿Por qué Sistemas Alternos?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El sistema ERP actual carece 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Medios visuales apropi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Facilidad en el cambio de priorid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Identificación clara de pedidos y espacios asign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onsideración de capacidades finit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Un programa de tintorería automático, con información útil y fácil de prioriz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Herramientas para optimizar la program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EL PROBLEMA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EN RESUMEN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El sistema ERP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No es la única fuente de inform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No es el único medio para ingresar da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Así, no puede ser aprovechado para responder rápidamente al cli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Tampoco para mejorar la puntualidad en la entrega de product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0000"/>
                </a:solidFill>
                <a:latin typeface="Verdana"/>
              </a:rPr>
              <a:t>Aún así mantiene grandes cantidades de información útil y muy relevante, pero que no puede aprovechar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EL PROBLEMA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EN RESUMEN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Los sistemas altern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ermiten realizar de manera eficaz las actividades de planificación y progra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Son muy dependientes de las personas que los manej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Además son alimentados en gran parte con información del sistema ERP aunque manualm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No todas sus soluciones son copiadas al sistema ER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Dan soluciones miopes y sub-óptimas a corto plazo y sin considerar todas las variables relevan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ff0000"/>
                </a:solidFill>
                <a:latin typeface="Verdana"/>
              </a:rPr>
              <a:t>No están integrados con el sistema ER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LA SOLUCIÓN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EL CASO DE TEJEDURÍ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80880" y="2846520"/>
            <a:ext cx="4114800" cy="30970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724280" y="289548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87320" y="6033960"/>
            <a:ext cx="38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Visual Interactive Planning (V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853960" y="5958000"/>
            <a:ext cx="22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Knitting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1600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Adquisición del módulo VIP que eventualmente reemplazaría al Knitt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LA SOLUCIÓN</a:t>
            </a:r>
            <a:br>
              <a:rPr sz="2800"/>
            </a:b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¿</a:t>
            </a: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EL CASO DE TINTORERÍA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3520" y="1635120"/>
            <a:ext cx="8076960" cy="3699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80880" y="5410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PROGRAMA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LA SOLUCIÓN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PROPUEST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s-BO" sz="2800" spc="-1" strike="noStrike">
                <a:solidFill>
                  <a:srgbClr val="000000"/>
                </a:solidFill>
                <a:latin typeface="Verdana"/>
              </a:rPr>
              <a:t>Modelo de Programación de la Producción en Tintorerí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Modelo de Programación Diná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Debe ser desarrollado también como sistema alter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ero integrado con el sistema E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Debe permitir una visualización completa de la utilización de la capa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El Probl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La Solu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Objetivo Gener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eguntas o Dud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LA SOLUCIÓN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PROPUEST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La idea 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Determinar diariamente o cuando se requiera, la secuencia de </a:t>
            </a:r>
            <a:r>
              <a:rPr b="0" lang="es-BO" sz="2800" spc="-1" strike="noStrike">
                <a:solidFill>
                  <a:srgbClr val="ff0000"/>
                </a:solidFill>
                <a:latin typeface="Verdana"/>
              </a:rPr>
              <a:t>TODOS</a:t>
            </a: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 los Dyelots pendientes a procesarse de la manera </a:t>
            </a:r>
            <a:r>
              <a:rPr b="0" lang="es-BO" sz="2800" spc="-1" strike="noStrike">
                <a:solidFill>
                  <a:srgbClr val="ff0000"/>
                </a:solidFill>
                <a:latin typeface="Verdana"/>
              </a:rPr>
              <a:t>“más conveniente”</a:t>
            </a: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 po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LA SOLUCIÓN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PROPUEST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Sujeto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Capacidades mínima y máxima de cada máqu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Secuencia de col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ioridad de acuerdo al inicio del proceso siguiente según el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Disponibilidad de mate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Disponibilidad de químicos y color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Espacios disponi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LA SOLUCIÓN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PROPUEST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490680" indent="-490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Sujeto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Visión de Aps compl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Distinción entre APs planificados y program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Consideración de Inquiries y su reserva en una máquina virt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ocesos y dur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Co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Tipo de tela, etc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LA SOLUCIÓN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PROPUEST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Función Objetiv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Minimizar el tiempo total de retr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Minimizar costos de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0000"/>
                </a:solidFill>
                <a:latin typeface="Verdana"/>
              </a:rPr>
              <a:t>Maximizar la utilización de la capa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LA SOLUCIÓN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PROPUESTA ADICIONAL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Las entradas del modelo propuesto serían los Dyelo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La carga de los Dyelots se calcula manua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La propuesta adicional serí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Modelo para optimizar y automatizar el cálculo del tamaño de los Dyelo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OBJETIVOS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OBJETIVO GENERAL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Brindar información completa, útil, oportuna y lo más aproximada a la realidad posible basada en soluciones óptimas y objetivas de tal modo que permita tomar decisiones de manera más rápida y coher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OBJETIVOS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OBJETIVOS ESPECÍFIC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Utilizar de manera óptima la capacidad de tintorer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ermitir decisiones acerca de la viabilidad de nuevos compromisos o adelantos de otros según se requi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Mejorar la calidad de la información debiendo ser el reflejo de lo que sucede en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Determinar verdaderos requerimientos de químicos y color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otenciar el uso del sistema E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Fomentar la actualización de información en el sistema E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Lograr soluciones óptimas de manera objetiva y relativamente ráp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Automatizar los procesos de planificación y program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PREGUNTAS O DUDAS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1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743200" y="2560680"/>
            <a:ext cx="36576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Descripción de la Empresa – Ametex S.A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Compañía fundada en 1965 en la ciudad de La Paz y considerada la empresa textil más importante de Boliv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Cadena textil integrada verticalmente en torno a ocho plan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rocesos desde el hilado hasta la costura y acabado de prendas de vestir de algod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Da empleo a 2.400 person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Ventas anuales de 35 millones de dóla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77% de las ventas corresponden a exportaciones principalmente a Estados Uni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roducción de ocho millones de prendas anualmente para marcas como Polo Ralph Lauren, Polo Kids y Express principalm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Cuenta con un sistema ERP especializado en texti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Descripción de Universaltex S.A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Fábrica textil que forma parte de la compañía Ametex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Aproximadamente 400 emple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ocesos principales: tejido, tintorería, secado y acaba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Materia prima: hilo de algod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oducto terminado: variedades de tela acabada de pu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Mercado Textil y de Prendas de Vestir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Mercado sofisticado que demanda innovaciones más frecuentes, mayor exclusividad, mayor variedad y mejor servic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Necesidades futuras cada vez más inciertas y sujetas a cambios más frecuen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Surgimiento de mercados externos y por ende liberalización comerci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Misión de la Compañía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SUMINISTRAR A NUESTROS CLIENTES CON PRODUCTOS TEXTILES DE GRAN CALIDAD Y EN UN </a:t>
            </a:r>
            <a:r>
              <a:rPr b="0" lang="es-BO" sz="2800" spc="-1" strike="noStrike">
                <a:solidFill>
                  <a:srgbClr val="ff0000"/>
                </a:solidFill>
                <a:latin typeface="Verdana"/>
              </a:rPr>
              <a:t>TIEMPO OPORTUNO</a:t>
            </a: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Que se manifiesta 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Tecnología moderna para los equipos de produc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Laboratorio completamente equipado para el aseguramiento de la calida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Aseguramiento de la calidad en la línea, realizado por auditores certifica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Entrenamiento y motiva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0000"/>
                </a:solidFill>
                <a:latin typeface="Verdana"/>
              </a:rPr>
              <a:t>Sistema de información basado en un ERP especializado en la industria textil y de confeccion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8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Cadena Textil Integrada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15200" y="1523880"/>
            <a:ext cx="94608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302600" y="5334120"/>
            <a:ext cx="97956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838080" y="1676520"/>
            <a:ext cx="2645640" cy="2209680"/>
            <a:chOff x="838080" y="1676520"/>
            <a:chExt cx="2645640" cy="2209680"/>
          </a:xfrm>
        </p:grpSpPr>
        <p:sp>
          <p:nvSpPr>
            <p:cNvPr id="108" name=""/>
            <p:cNvSpPr/>
            <p:nvPr/>
          </p:nvSpPr>
          <p:spPr>
            <a:xfrm rot="16200000">
              <a:off x="914400" y="2057400"/>
              <a:ext cx="380880" cy="533520"/>
            </a:xfrm>
            <a:prstGeom prst="downArrow">
              <a:avLst>
                <a:gd name="adj1" fmla="val 50000"/>
                <a:gd name="adj2" fmla="val 35019"/>
              </a:avLst>
            </a:prstGeom>
            <a:solidFill>
              <a:srgbClr val="cc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6200000">
              <a:off x="914400" y="2514600"/>
              <a:ext cx="380880" cy="533520"/>
            </a:xfrm>
            <a:prstGeom prst="downArrow">
              <a:avLst>
                <a:gd name="adj1" fmla="val 50000"/>
                <a:gd name="adj2" fmla="val 35019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6200000">
              <a:off x="914400" y="3429000"/>
              <a:ext cx="380880" cy="533520"/>
            </a:xfrm>
            <a:prstGeom prst="downArrow">
              <a:avLst>
                <a:gd name="adj1" fmla="val 50000"/>
                <a:gd name="adj2" fmla="val 3501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6200000">
              <a:off x="914400" y="2971800"/>
              <a:ext cx="380880" cy="533520"/>
            </a:xfrm>
            <a:prstGeom prst="downArrow">
              <a:avLst>
                <a:gd name="adj1" fmla="val 50000"/>
                <a:gd name="adj2" fmla="val 35019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6200000">
              <a:off x="914400" y="1600200"/>
              <a:ext cx="380880" cy="533520"/>
            </a:xfrm>
            <a:prstGeom prst="downArrow">
              <a:avLst>
                <a:gd name="adj1" fmla="val 50000"/>
                <a:gd name="adj2" fmla="val 3501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24520" y="1676520"/>
              <a:ext cx="199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Fibra de algod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78080" y="2133720"/>
              <a:ext cx="60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Hi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90320" y="259092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Te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40720" y="3505320"/>
              <a:ext cx="20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Prendas de vest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28480" y="3048120"/>
              <a:ext cx="184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Piezas corta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648320" y="1676520"/>
            <a:ext cx="1904760" cy="68580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H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2895480"/>
            <a:ext cx="1904760" cy="685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UNIVERSAL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90920" y="4114800"/>
            <a:ext cx="1904760" cy="685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MA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114800"/>
            <a:ext cx="1904760" cy="685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TEM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5334120"/>
            <a:ext cx="190512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M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05720" y="4114800"/>
            <a:ext cx="1904760" cy="685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BA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10080" y="24382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365760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863600">
            <a:off x="2819520" y="487692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67480" y="487692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10080" y="487692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962160" y="533376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8483000">
            <a:off x="4385880" y="474156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455200">
            <a:off x="4190760" y="335232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394400">
            <a:off x="6629400" y="335232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6705720" y="17524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876920" y="5257800"/>
            <a:ext cx="182556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8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Proceso de Fabricación de Tela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335268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Almacé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Hilo Crudo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Encon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1905120"/>
            <a:ext cx="106668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Tintore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de Hilo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Ci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335268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Tejedu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Circulares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Rectilín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335268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Tintore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Tela Sóli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y Ray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01000" y="335268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Secado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Acab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3352680"/>
            <a:ext cx="106704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Almacé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Tela Cruda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Prepar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01000" y="198108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Almacé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Despa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358128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358128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5880" y="358128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20120" y="358128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0800000">
            <a:off x="7391520" y="220932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8305560" y="28954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72200" y="2133720"/>
            <a:ext cx="106668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ffff"/>
                </a:solidFill>
                <a:latin typeface="Verdana"/>
              </a:rPr>
              <a:t>C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3505320"/>
            <a:ext cx="106704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ffff"/>
                </a:solidFill>
                <a:latin typeface="Verdana"/>
              </a:rPr>
              <a:t>HIL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23880" y="358128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600" y="4597560"/>
            <a:ext cx="364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Hilo heather, cru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Hilo crudo bl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Hilo teñ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Cinta Cru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Cinta Teñ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Hilo heather, crudo y teñ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044000" y="2535480"/>
            <a:ext cx="947160" cy="816840"/>
            <a:chOff x="1044000" y="2535480"/>
            <a:chExt cx="947160" cy="816840"/>
          </a:xfrm>
        </p:grpSpPr>
        <p:sp>
          <p:nvSpPr>
            <p:cNvPr id="154" name=""/>
            <p:cNvSpPr/>
            <p:nvPr/>
          </p:nvSpPr>
          <p:spPr>
            <a:xfrm rot="19127400">
              <a:off x="1248480" y="2901240"/>
              <a:ext cx="761760" cy="228240"/>
            </a:xfrm>
            <a:prstGeom prst="rightArrow">
              <a:avLst>
                <a:gd name="adj1" fmla="val 50000"/>
                <a:gd name="adj2" fmla="val 83438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8218800">
              <a:off x="1019160" y="2764800"/>
              <a:ext cx="762120" cy="228240"/>
            </a:xfrm>
            <a:prstGeom prst="rightArrow">
              <a:avLst>
                <a:gd name="adj1" fmla="val 50000"/>
                <a:gd name="adj2" fmla="val 83478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209680" y="2734560"/>
            <a:ext cx="384120" cy="549360"/>
            <a:chOff x="2209680" y="2734560"/>
            <a:chExt cx="384120" cy="549360"/>
          </a:xfrm>
        </p:grpSpPr>
        <p:sp>
          <p:nvSpPr>
            <p:cNvPr id="157" name=""/>
            <p:cNvSpPr/>
            <p:nvPr/>
          </p:nvSpPr>
          <p:spPr>
            <a:xfrm rot="16279200">
              <a:off x="2261520" y="2880000"/>
              <a:ext cx="469800" cy="183240"/>
            </a:xfrm>
            <a:prstGeom prst="rightArrow">
              <a:avLst>
                <a:gd name="adj1" fmla="val 50000"/>
                <a:gd name="adj2" fmla="val 64096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5371200">
              <a:off x="2068200" y="2956680"/>
              <a:ext cx="469800" cy="183240"/>
            </a:xfrm>
            <a:prstGeom prst="rightArrow">
              <a:avLst>
                <a:gd name="adj1" fmla="val 50000"/>
                <a:gd name="adj2" fmla="val 64096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523880" y="38098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28195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28195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2514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29718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8120" y="38098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38098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38098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20120" y="38098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077320" y="29718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91520" y="24382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07480" y="4572000"/>
            <a:ext cx="454860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Tela cruda (sólida, rayada o heath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Tela cruda prepa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Tela teñida o lav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Tela seca y acab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Tela de color, rayada y he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8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Flujos de Planificación y Programación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160020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Comercia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152388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Cl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43200" y="3962520"/>
            <a:ext cx="106668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Planific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Cor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29200" y="266688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Opera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38880" y="3962520"/>
            <a:ext cx="106704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Program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y Control T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29200" y="3962520"/>
            <a:ext cx="106668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Planific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T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29200" y="1905120"/>
            <a:ext cx="990720" cy="0"/>
          </a:xfrm>
          <a:prstGeom prst="line">
            <a:avLst/>
          </a:prstGeom>
          <a:ln w="3816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266688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Planific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Confe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29200" y="525780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Planific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Hil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05740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89440" y="2342160"/>
            <a:ext cx="326880" cy="421200"/>
          </a:xfrm>
          <a:prstGeom prst="line">
            <a:avLst/>
          </a:prstGeom>
          <a:ln w="3816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37160" y="2418120"/>
            <a:ext cx="326880" cy="421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699000" y="2287440"/>
            <a:ext cx="374400" cy="3924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3429000"/>
            <a:ext cx="0" cy="533520"/>
          </a:xfrm>
          <a:prstGeom prst="line">
            <a:avLst/>
          </a:prstGeom>
          <a:ln w="3816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342900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3429000"/>
            <a:ext cx="0" cy="533520"/>
          </a:xfrm>
          <a:prstGeom prst="line">
            <a:avLst/>
          </a:prstGeom>
          <a:ln w="3816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4120" y="342900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638680" y="4724280"/>
            <a:ext cx="0" cy="533520"/>
          </a:xfrm>
          <a:prstGeom prst="line">
            <a:avLst/>
          </a:prstGeom>
          <a:ln w="3816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86400" y="47242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46680" y="2971800"/>
            <a:ext cx="99036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62520" y="3124080"/>
            <a:ext cx="99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4267080"/>
            <a:ext cx="99036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934800" y="3367080"/>
            <a:ext cx="893520" cy="4284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010760" y="3519720"/>
            <a:ext cx="893160" cy="428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62920" y="5257800"/>
            <a:ext cx="12952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000000"/>
                </a:solidFill>
                <a:latin typeface="Verdana"/>
              </a:rPr>
              <a:t>Prod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000000"/>
                </a:solidFill>
                <a:latin typeface="Verdana"/>
              </a:rPr>
              <a:t>T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72200" y="4267080"/>
            <a:ext cx="99072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72400" y="4724280"/>
            <a:ext cx="0" cy="53352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20415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1 -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2953800">
            <a:off x="4235760" y="26208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10 -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4692960" y="35344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6 -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4845240" y="48297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5 -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20045400">
            <a:off x="4115160" y="37335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2559240" y="36108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3124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16606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1 -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8904800">
            <a:off x="3429360" y="22093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3016440" y="36108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9 -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4267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5302440" y="4906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6 -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5150160" y="36108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20045400">
            <a:off x="3886560" y="33523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62520" y="27432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3134400">
            <a:off x="4616640" y="239184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72200" y="4267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66"/>
                </a:solidFill>
                <a:latin typeface="Verdana"/>
              </a:rPr>
              <a:t>4 -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7131240" y="4906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66"/>
                </a:solidFill>
                <a:latin typeface="Verdana"/>
              </a:rPr>
              <a:t>3 -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91320" y="3429000"/>
            <a:ext cx="0" cy="53352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3134400">
            <a:off x="4845240" y="22395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66"/>
                </a:solidFill>
                <a:latin typeface="Verdana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18040" y="2189520"/>
            <a:ext cx="326880" cy="4212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29200" y="1676520"/>
            <a:ext cx="990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29200" y="1432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66"/>
                </a:solidFill>
                <a:latin typeface="Verdana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5400000">
            <a:off x="5455080" y="36108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66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563868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77880" y="54100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Planificación </a:t>
            </a:r>
            <a:r>
              <a:rPr b="1" lang="es-BO" sz="1400" spc="-1" strike="noStrike">
                <a:solidFill>
                  <a:srgbClr val="ff0000"/>
                </a:solidFill>
                <a:latin typeface="Verdana"/>
              </a:rPr>
              <a:t>de Inq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6019920"/>
            <a:ext cx="990720" cy="0"/>
          </a:xfrm>
          <a:prstGeom prst="line">
            <a:avLst/>
          </a:prstGeom>
          <a:ln w="3816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64200" y="5791320"/>
            <a:ext cx="195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Verdana"/>
              </a:rPr>
              <a:t>Planificación</a:t>
            </a:r>
            <a:r>
              <a:rPr b="1" lang="es-BO" sz="1400" spc="-1" strike="noStrike">
                <a:solidFill>
                  <a:srgbClr val="006600"/>
                </a:solidFill>
                <a:latin typeface="Verdana"/>
              </a:rPr>
              <a:t> de 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6400800"/>
            <a:ext cx="99072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16760" y="6172200"/>
            <a:ext cx="275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Programaci</a:t>
            </a:r>
            <a:r>
              <a:rPr b="1" lang="es-BO" sz="1400" spc="-1" strike="noStrike">
                <a:solidFill>
                  <a:srgbClr val="000066"/>
                </a:solidFill>
                <a:latin typeface="Verdana"/>
              </a:rPr>
              <a:t>ón de APs en T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504360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FLUJOS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5029200"/>
            <a:ext cx="4343400" cy="1523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3:12:04Z</dcterms:created>
  <dc:creator> Abel Gonzalo Salinas Columba</dc:creator>
  <dc:description/>
  <dc:language>en-US</dc:language>
  <cp:lastModifiedBy>julie lagos</cp:lastModifiedBy>
  <dcterms:modified xsi:type="dcterms:W3CDTF">2004-10-22T14:11:13Z</dcterms:modified>
  <cp:revision>137</cp:revision>
  <dc:subject/>
  <dc:title>Modelo de Programación de la Producción en Tintorerí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